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067-73DB-4E1B-8ACB-2C7DED3A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3DD-DFF1-46D4-8DBB-1F17947A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290-7F9F-488A-9DD2-2B6BC82B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465-0626-4FCB-B552-FA3FA8ED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9671-A4A7-4B67-93CA-6EB11B67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B8FB-A650-424A-8408-01F60AC5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6508-5A42-4886-B1FC-03D74A61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A8C6-2848-41A2-A4E3-2167F606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25B1-EC0F-4FE0-9688-D15CC47D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FCB2-4786-4FC6-A4EA-A51942C4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F732-731D-4040-975A-5951D856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6F0-B089-4220-B58A-4A944AC8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2973-B284-47B0-BED0-8CC22301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EE70-6E16-460F-9C08-1455D35F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AEC0-FBA3-4A5E-9FF7-B937357F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6C27-113D-42B0-821D-1C23C22B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AF80-E312-4BD1-B399-AACB9542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C10-D93F-4DE3-A279-3022D846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16B-569F-4F8C-89A5-6166FE15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0D5-8686-4D8B-850D-F6AD0785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AE5-713E-4AFF-88B6-9C58672B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F2C-C8CB-48C6-85EB-72FA1791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416-4FC6-44FA-B534-F8465138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178-ECD3-45D7-B18F-218726CD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D4FA-B2B3-4A62-897B-4E0C27045A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EEE6-61FB-4261-8473-FEBC8E7299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十一章  国际金融创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nancial Inno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金融创新成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西方金融创新成因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W.I.Silber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约束诱导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E.J.Kane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规避管制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制度学派的创新理论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Hicks ,Niehans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交易成本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其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林和海伍德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里和肖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金融创新的背景与原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以来的创新浪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背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经济变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金融形势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的原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过时的金融管制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债的大量发行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资本国际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新技术的应用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经济思想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金融创新实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管理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国政府金融管制与监督的差异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管制与监督的演变与金融改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西方国家管制与监督变化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避管制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风险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强流动性、降低成本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金融市场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特大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金融创新的特征、影响及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创新的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率自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业务全能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工具多样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国际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运作信息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大型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创新对世界金融业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量巨增，市场结构不平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体系呈现新格局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战略调整，重视对外业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业务电子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金融创新中存在的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府金融机构的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体系稳定性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政策的重新选择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7:36Z</dcterms:created>
  <dc:creator>MS User</dc:creator>
  <dc:description/>
  <dc:language>en-US</dc:language>
  <cp:lastModifiedBy>Dell</cp:lastModifiedBy>
  <dcterms:modified xsi:type="dcterms:W3CDTF">2021-08-23T22:48:37Z</dcterms:modified>
  <cp:revision>10</cp:revision>
  <dc:subject/>
  <dc:title>第六章  国际金融创新</dc:title>
</cp:coreProperties>
</file>